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297-B090-4609-9EBD-A4C35F5A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8E5-3A79-498B-9FB4-CAC5A6FF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0C9-27F8-45A1-900B-4778DCC9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B6B-8048-477A-8983-4D07F615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7D276-95C1-40A3-ABC5-16E7A64B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BF828-321A-44F1-AB22-1B682E9D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AD722-4CB1-40E1-A872-363CB1CC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147F1-C0B8-4D20-B853-710D5330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DD8B7-966B-45A7-84F2-43205438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1AE8E-15D4-49B8-8791-984E88FF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0A8A5-B3EA-43B1-B030-0A6D343A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51E-A1DE-469C-B46D-5C376F65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FB935-5DF3-48A0-A566-ABCD96C5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B28C0-78D1-4B03-92CA-9FC34EE7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B992-8B40-473C-8D5A-DB82ED4C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8CD62-1A0C-4679-AC47-CCB6545F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E3602-DEB0-4622-ADB3-46A2E61D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532-3FFB-45BB-A042-D1D5B16A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E3D-758E-44E3-9A47-0E055C6C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49A-1A11-4368-8216-6B54DFCE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762-4248-4D08-A5E1-693928DC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7C2-6075-43E2-8433-20BE3266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EF3-D24B-477C-AC1D-82B0EA0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C4F-009D-4E29-A9BA-C86823F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6514-ECC7-4506-AFC5-DDC758F6FA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8D80-B7A0-4089-8A48-A7805E51BE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Butterfl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ara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29400" y="990720"/>
            <a:ext cx="1917720" cy="90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Hey! Do you want to learn about butterflies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19335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terflies can grow to be 12 inches.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y look like a lea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12 inches long because they eat a lot of food each 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32767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y can be found world wide, even on the continent of North America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2174760" cy="1724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867280" y="2438280"/>
            <a:ext cx="2952720" cy="335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14400" y="4691160"/>
            <a:ext cx="48769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y eat and drink a lot of times in a day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at grass a lot of times in a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42108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2038320" cy="3537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2431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terflies can get stuck in spider web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get stuck in a web because they fly in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ay they get stuck in the we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all about butterf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34320" y="2895480"/>
            <a:ext cx="2230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that is all about butterflies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4419720" cy="3886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19920" y="3046320"/>
            <a:ext cx="3429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7:25:08Z</dcterms:modified>
  <cp:revision>4</cp:revision>
  <dc:subject/>
  <dc:title>Animal Name</dc:title>
</cp:coreProperties>
</file>